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E8ED-1400-447F-B847-391EBEE2396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5086-BB09-4370-BBA8-D24F481006A4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A0A1-10D7-47DD-933D-45E094B59FB0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ED46-1235-42A7-AE71-3D8E7F8AA879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4C50-8B37-4ECC-8AEB-AB8608885BAD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BE40-EFC0-4BBA-821D-C61A91FD234A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9AF1-0612-4309-B19A-C1886AC49AB0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204A-B69B-45A4-BA60-66F099FA5D22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D784-B7A3-422B-A79F-73DF3C92C9B6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0685-418F-4B7F-A3BA-21B98476527F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4453-D065-46EC-9591-E640B8C265DE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0BBA-0225-4656-A3B2-D2DE67C99BAB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AC9C-6AA6-4935-8880-44889F1A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F24-02BD-4287-BBE1-E38474F2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264-D6AC-44F7-B220-C0F504A5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B27-7331-4B45-A341-7789D466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44A0-D6D5-4972-BD1F-7F66D2A1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EF33-B8A8-434C-BA85-737F5ACB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637F-677F-42EC-9CBE-652A9ACB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C7AC-6539-4ED6-8DE0-718DA864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3D40-4AAC-4717-AC76-F9C492A6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A4A3-8049-45CF-83F7-CB8BD766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A212-BA86-402A-A816-E98DEE3F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4293-ADAD-40F8-AD2F-F653CDD3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7A49-B51F-4247-844F-4E5DF2B5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C450-9725-4CB9-9FF9-D421E033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932D-D483-455B-853E-ACC5F17D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425E-1B46-436F-BDE4-89F786CB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7201-8F13-48FF-99B9-ED4E3DC9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F4AF-DA5B-41F1-82ED-3ECF0350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90B0-A282-4386-B4DA-E056CD95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DFE3-9637-4E14-903B-8E84066A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E7FD-6624-492C-AB19-9EF745A8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9430-48E5-4360-ACB0-951A09F0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F522-8083-4A1D-B7E9-F4366220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9007-F374-4F88-8EAC-CA2773A6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C157-499E-45C6-B0FA-6971F27DAE4E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prstGeom prst="pie">
              <a:avLst/>
            </a:pr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AEC2-0C51-4F95-9FDA-E1766A9FDD85}" type="slidenum">
              <a:rPr b="0" lang="en-CA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ing </a:t>
            </a:r>
            <a:br>
              <a:rPr sz="5400"/>
            </a:b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ebook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41911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UWindsor students need to know…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o Can See My Profil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34920" y="1285920"/>
            <a:ext cx="62370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Although it can feel private, it is a      </a:t>
            </a:r>
            <a:r>
              <a:rPr b="0" i="1" lang="en-CA" sz="2600" spc="-1" strike="noStrike">
                <a:solidFill>
                  <a:srgbClr val="446eb2"/>
                </a:solidFill>
                <a:latin typeface="Arial"/>
              </a:rPr>
              <a:t>very</a:t>
            </a: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 public forum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eople share photos, look at profiles  in public places, and view friends’, and friends’ of friend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Your “friends” may not have the same level of privacy settings as you thereby making your information accessible to more people than you think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Read the fine print “Facebook’s Privacy Policy” and “Safe Use Principles”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How Well Do You Really Know Your “Friends”?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440" y="1571760"/>
            <a:ext cx="581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focus on trying to acquire as many “friends” as possib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selective OR consider “customizing” your privacy for those who are not “close friends”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gnoring a friend request is perfectly okay if you aren’t sur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7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42680" y="1413000"/>
            <a:ext cx="6072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o’s looking over your “friends’” shoulders while they are looking at your profil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ny employers look up potential employees on Facebook to get a better understanding of the applicant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Consider this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46eb2"/>
                </a:solidFill>
                <a:latin typeface="Arial"/>
              </a:rPr>
              <a:t>http://www.cbsnews.com/stories/2006/06/20/eveningnews/main1734920.shtml?source=RSS&amp;attr=SciTech_1734920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440" y="1676160"/>
            <a:ext cx="5815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Bikini clad, beer chuggers will not impress a recruiter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Even if your profile is closed, people who know people can inadvertently encounter your information –it’s a small world!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arts of your profile can remain accessible to the World Wide Web in more ways than you might realize –a mere “google search” can turn up a lot of information about you from the past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8fab0"/>
                </a:solidFill>
                <a:latin typeface="Arial Black"/>
              </a:rPr>
              <a:t>Groups and Your Association With Them: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63640" y="1413000"/>
            <a:ext cx="616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ybe you work at Tim Horton’s and you join the group “Outraged Tim Horton’s Staff Unite: We know how much it REALLY sucks”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ould this leave a good impression if your boss saw your profile? 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about future employers who might be watch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You, the role model….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28800" y="1676520"/>
            <a:ext cx="59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erhaps you are in a mentorship role?  (Leader, coach, scout leader, volunteer at a school)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Your mentee goes home and looks you up on Facebook and sees you in unflattering photo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essage are you send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ttention: Everyone</a:t>
            </a:r>
            <a:r>
              <a:rPr b="0" lang="en-CA" sz="24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412640"/>
            <a:ext cx="610092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lthough your online activity is   not likely to be monitored, you could be held accountable if you are engaged in questionable behaviou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you wouldn’t put on a poster for all to see (including grandparents and professors), you might want to think twice about posting onlin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Did Someone Say Polic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14680" y="1676520"/>
            <a:ext cx="62863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t some institutions, following an incident such as a party that gets out of hand, campus and city police have found information or photos on Facebook that may provide incriminating evidence about the individuals involved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Underage drinking, keg parties, acts of vandalis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Misinterpretations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ink about how the content on your Facebook could be interpreted or misinterpreted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ay seem like a joke to you and your friends, could be seen as serious by someone else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tories of Facebook addiction are also common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Did you know that Facebook gets more than 65 billion page views per month and more than half of active users return dail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ome students log in to their profiles several times a da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Remember why you are at Universit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6815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56880" y="1428840"/>
            <a:ext cx="7000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Help you to connect or reconnect        with friend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tay in touch with long distance relationshi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hare photos, videos, informa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Join groups with like minded peop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32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5410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uch time are you “Facebooking” every da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re you using it wisely?  Is it controlling your every mov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ight this affect your work, school, and social lif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ighting the Addiction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5450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ace to Face vs. Facebook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kid yourself –logout or turn off your computer when you’re study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t goals –what do you need to accomplish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ime allocation –give yourself time limits –use it as a reward after you accomplish your goa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Look at the Bright Side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540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reating or refining one’s self identity and value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Use it to build connections with peers and create civil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onnect with people and groups that foster a positive sense of commun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Learn to use technology in creative and useful ways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e8fab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100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e YouTube clip below helps to illustrate that although there are many positive uses for Facebook, sometimes, users may get carried away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e8fab0"/>
                </a:solidFill>
                <a:uFillTx/>
                <a:latin typeface="Arial"/>
                <a:hlinkClick r:id="rId1" action="ppaction://hlinksldjump"/>
              </a:rPr>
              <a:t>http://www.youtube.com/watch?v=nrlSkU0TF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Don’t Be a Facebook Fool!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A Google search of “Facebook cautions” provides many articles and tips on using Facebook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informed and use it wisely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824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440" y="1676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nvite people to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ommunity build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Get up-to-the-minute information on people or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Make you have a sense of belonging and provide social interac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610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How Can Facebook Impact You Negatively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57240" y="1413000"/>
            <a:ext cx="6143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Friends –knowing too much about    you and you about the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 inappropriate photos and      not having control on photos posted of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Joining groups that may reflect poorly on your choices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s on walls that may use         foul language or reflect poorly on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Does it Really Matter Anyway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t’s nobody’s business –it’s my private world!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Right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Not really…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39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Privacy? Is there such a thing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57240" y="149976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ex-girlfriend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boyfriend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academic adviso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professo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eference for your next job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mothe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oommate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e guy down the street who gives you the cree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Information to Avoid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800" y="1676520"/>
            <a:ext cx="54100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“Info” page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birthdate (especially the year of your birth) can make you more susceptible to fraud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addres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Contact info, cell phone, etc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schedule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Groups associated with -(be careful if they are offensive)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rom a Professional Perspectiv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5600" y="1413000"/>
            <a:ext cx="5643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s it just for fun, or are there people viewing my profile who may be judging m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f you say it to one person on Facebook, you say it to the whole world.”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But I Have the “Privacy” Setting Turned on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71760" y="1676160"/>
            <a:ext cx="62863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s it set to only “friends” or can the entire “University Community” gain access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People at Windsor and friends” –means ANYONE associated with the U could potentially see your profile –even Alumni –ie employers, professors, etc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Friends of friends”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Only friends” –those you invit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Customize” –most secu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49:47Z</dcterms:created>
  <dc:creator>edcstudent</dc:creator>
  <dc:description/>
  <dc:language>en-US</dc:language>
  <cp:lastModifiedBy>edcuser</cp:lastModifiedBy>
  <dcterms:modified xsi:type="dcterms:W3CDTF">2009-08-20T15:58:06Z</dcterms:modified>
  <cp:revision>130</cp:revision>
  <dc:subject/>
  <dc:title>FACEBOOK  &amp;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